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7BC-8EA6-4BAF-A800-FA93A773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B080-89AA-4A2A-8497-C4B89197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11B8-F0BA-4C25-BB9E-E28AB410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748E-540C-49B5-AD4A-865C7554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28E9-9D45-4805-98DE-CF6AC304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7FB8-6BE1-495D-8E43-08E29CAA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778B-9700-4526-99E5-79881421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D7DA-4275-4559-8AE1-7FB0E51F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D299-71B9-4ED6-8581-00FEDD36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4767-FFE4-4223-A326-C002AFE6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F2BF-606E-482C-A275-804B3701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1AC2-B5B6-49D0-BEDD-08DD4D5B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45E9-591F-431F-A645-31BDCACE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7DE7-AC87-4794-8E78-0FD9E7EA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3AAB-82D3-4FD4-9607-FA00B652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D3E4-C936-4C72-8BCA-99EF809F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F50D-7387-45D9-8C25-43F50B1D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94D09-BDDE-46E1-B400-AF877F1C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A2508-A5FE-4913-905F-B3D78406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786A5-A205-4617-8D07-2B5ECE49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0017D-4080-4569-A43E-18BD92EA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7323F-9CB5-4456-9533-16BE9C21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9DF-E8AC-4DBA-8CF1-9E8F8380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C1374-6D5E-4036-829B-E21A6A0F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1067C-9E68-40F3-9BEF-711D0194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CDDB7-76F1-4878-8FDB-626DF264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60BBE-90F6-4CDF-92DB-10068EDB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D1C3D-B582-455C-8E98-1F3164CE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7DC84-70D8-4A4D-BDCA-54B2F801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46E0C-BAFB-4752-A3F6-222BE05E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058-600C-4C16-A48D-DF2165A4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458A-7BCC-45EB-9482-CFA9D5FC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27AC-489D-4F4C-96E8-2FE94747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8BBB-A8EC-45F7-BB44-205AC934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4C9F-2CD3-42B1-8298-177BCA0F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64AC-1225-4B9C-A246-A1A4F0DA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4FBA-0BCB-4A9B-975E-FBD8CDF89F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930F-3520-4FEB-B857-260AD49F29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E06E-7D03-4D93-903B-BAE5D21F5AC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6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23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9097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激活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1450800" y="32050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623880" y="320508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1450800" y="3747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/>
          <p:cNvSpPr/>
          <p:nvPr/>
        </p:nvSpPr>
        <p:spPr>
          <a:xfrm>
            <a:off x="623880" y="374796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2T04:50:52Z</dcterms:modified>
  <cp:revision>121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