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B511-0777-43EE-8168-67F854F29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E21F-AE45-45AA-80A2-8F585C6E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8101-8787-48BC-9A5C-94FD71DE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DFA4-5B67-425C-9307-6AC845526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D368-81D0-49FD-A8C1-1FB3571A8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1387-3C8B-48E4-B907-E43BFB8C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37D6-C93E-4AAE-AB5E-20876E2D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B6BB-C4C2-4F84-863C-E3A77881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8B31-BFAF-413D-8B33-4193D333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8032-2DD0-4305-8BB6-91F90C71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9061-5024-4DB9-8661-B41E92C0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40C1-A278-4D1B-BF11-4456A0F4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C15F-4792-42B3-81BA-8071F784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7AED-C1DC-4090-94C0-BC1A3549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BB2F-0095-48E4-9B99-7E4EC9BE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602E-3CF7-4F91-8499-40C081EC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9872-B23E-4DB3-9654-7F045A5F6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F2868-4962-4021-A726-80749ABAF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24309-241B-469D-9612-399621C3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2C701-3901-463B-873D-F943AAD3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FF86D-F80A-4F4E-A767-56191E7A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F80AE-2DF7-4A0D-9627-25009DDB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8BC4-3323-4C0E-AAD7-D9C158AF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00279-1199-4A74-9179-0E9136E5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B3165-6469-427E-BEB6-E350D284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B8850-81D2-4080-8468-11CA925C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672DB-A492-43B8-8C8C-DA4A3526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9BD35-C646-41C1-8E6E-B6547316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2B8A8-AFFC-4FBF-AEC0-8C82EBCAA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4C435-515A-47E5-B7FC-B340087C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C1D8-AA69-434D-97B0-3CD8A6BC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AC17-04FD-44CA-AD75-B32C138A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46CD-0EF6-42CA-B21D-60FBD366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13E3-8AC1-4601-A43F-B3573D9E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1C75-DD87-41D2-A959-0C415F9F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DC8F-E4E3-4456-818A-4CE21C2E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277A-A6AC-4105-8713-A5436BCDA0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1C44-5F55-40B3-A2D5-B92C59BD212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25B8-B6E2-40BD-9228-1600E0470CA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6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23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激活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1450800" y="32050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623880" y="320508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1450800" y="3747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8"/>
          <p:cNvSpPr/>
          <p:nvPr/>
        </p:nvSpPr>
        <p:spPr>
          <a:xfrm>
            <a:off x="623880" y="374796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2T07:15:11Z</dcterms:modified>
  <cp:revision>122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