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67250-4135-4DF1-99BD-976E8E244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4A5D0-3227-43B3-9F90-8AF27E59C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56670-EFC0-4146-9127-2B0AD8762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7BA85-F82A-462E-9106-BBD99F922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9CC9F-1837-4DB9-B113-1E1D9EC7D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1754A-6024-4DE8-9045-F5E503DBF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F2EE0-227C-439F-A290-CA146B484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1A4FA-6E19-4304-93CF-1522B5583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3EF02-0182-4CB7-8CE2-555CC9D27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26970-408D-445A-86AE-9CD4AD92A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54E37-DD2D-44D2-9D45-D9CD2B453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D5005-1D88-4E69-AD5A-0E7DC48A1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0CE1A-AD87-4018-9CBC-8B8228543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E0B4A-DBEE-49F8-91D2-32B2FCD00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C9A82-AD2E-4F0E-975A-E3CFDA566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5043C-2237-4653-AA79-91570C68D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3CE82-225B-4F9A-86AB-DC7AACA57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21425D-636A-4C1C-A750-46ECDCA26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FE34D5-4C82-4CA1-976C-8E67A63C8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F8525A-D805-45F9-A7FA-3B3918A0E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684564-B3FC-48C7-8DEF-25490E3F1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682263-28F7-457E-9979-125FBF09E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1CEF7-4161-44B6-8426-4B2BDEADF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534DD9-641E-4034-86C0-0BC41C2CE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FED1EF-F426-4484-81C6-3043FB252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81B7EF-B029-4ACD-98C6-0BBC96A89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9AD79B-905D-4F47-863E-F4EE8E20A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ADAB11-3D24-40C1-BE0F-B3FA786B7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EFC30D-4533-4013-958C-89A568375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03CA94-4407-4E01-A947-702A6929C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2CA46-617F-4896-BF74-DD448A289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533C8-9B4B-4529-B097-EF4697E61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E3570-3634-468C-9ECB-1A4C58660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729D8-6E4D-441C-9F34-1503F31D6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8D9ED-9602-497F-981A-578C9C523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3790A-FDAD-4D2B-8A3D-2F1B9933C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7D7DD-5B7B-49E6-9609-CC65F04FFE7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D9760-0793-4CD2-99A9-9E0A5046E8BA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89AE3-8BB9-45B3-AFA8-48CE2341B573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画面流程图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（小程序端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报名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活动详细数据显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根据浏览人是否已经报名，按钮分为【报名】或者【取消报名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如果浏览人为【圈主】身份，则提醒是否【圈子报名】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矩形 12"/>
          <p:cNvSpPr/>
          <p:nvPr/>
        </p:nvSpPr>
        <p:spPr>
          <a:xfrm>
            <a:off x="417600" y="909720"/>
            <a:ext cx="3666960" cy="7318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详情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矩形 9"/>
          <p:cNvSpPr/>
          <p:nvPr/>
        </p:nvSpPr>
        <p:spPr>
          <a:xfrm>
            <a:off x="1628640" y="17762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矩形 26"/>
          <p:cNvSpPr/>
          <p:nvPr/>
        </p:nvSpPr>
        <p:spPr>
          <a:xfrm>
            <a:off x="581040" y="177624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矩形 29"/>
          <p:cNvSpPr/>
          <p:nvPr/>
        </p:nvSpPr>
        <p:spPr>
          <a:xfrm>
            <a:off x="1623960" y="209376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xxx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路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矩形 30"/>
          <p:cNvSpPr/>
          <p:nvPr/>
        </p:nvSpPr>
        <p:spPr>
          <a:xfrm>
            <a:off x="576360" y="209376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地点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矩形 31"/>
          <p:cNvSpPr/>
          <p:nvPr/>
        </p:nvSpPr>
        <p:spPr>
          <a:xfrm>
            <a:off x="1623960" y="243036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不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矩形 32"/>
          <p:cNvSpPr/>
          <p:nvPr/>
        </p:nvSpPr>
        <p:spPr>
          <a:xfrm>
            <a:off x="576360" y="243036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征集范围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矩形 33"/>
          <p:cNvSpPr/>
          <p:nvPr/>
        </p:nvSpPr>
        <p:spPr>
          <a:xfrm>
            <a:off x="1625760" y="276372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人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征集范围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矩形 35"/>
          <p:cNvSpPr/>
          <p:nvPr/>
        </p:nvSpPr>
        <p:spPr>
          <a:xfrm>
            <a:off x="1635120" y="308448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矩形 36"/>
          <p:cNvSpPr/>
          <p:nvPr/>
        </p:nvSpPr>
        <p:spPr>
          <a:xfrm>
            <a:off x="587520" y="308448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时长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矩形 37"/>
          <p:cNvSpPr/>
          <p:nvPr/>
        </p:nvSpPr>
        <p:spPr>
          <a:xfrm>
            <a:off x="1635120" y="3403440"/>
            <a:ext cx="227016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019.11.11-2012.11.25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矩形 38"/>
          <p:cNvSpPr/>
          <p:nvPr/>
        </p:nvSpPr>
        <p:spPr>
          <a:xfrm>
            <a:off x="587520" y="3403440"/>
            <a:ext cx="104904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期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矩形 39"/>
          <p:cNvSpPr/>
          <p:nvPr/>
        </p:nvSpPr>
        <p:spPr>
          <a:xfrm>
            <a:off x="1797120" y="3795840"/>
            <a:ext cx="2287440" cy="86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联系人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联系方式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15801992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集合地点：地铁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1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号线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5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号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集合时间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2019.11.11 12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矩形 40"/>
          <p:cNvSpPr/>
          <p:nvPr/>
        </p:nvSpPr>
        <p:spPr>
          <a:xfrm>
            <a:off x="417600" y="4983120"/>
            <a:ext cx="1857240" cy="412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圈子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矩形 41"/>
          <p:cNvSpPr/>
          <p:nvPr/>
        </p:nvSpPr>
        <p:spPr>
          <a:xfrm>
            <a:off x="2274840" y="4983120"/>
            <a:ext cx="1809720" cy="41292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个人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矩形 42"/>
          <p:cNvSpPr/>
          <p:nvPr/>
        </p:nvSpPr>
        <p:spPr>
          <a:xfrm>
            <a:off x="1254240" y="6172200"/>
            <a:ext cx="1809720" cy="41112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矩形 43"/>
          <p:cNvSpPr/>
          <p:nvPr/>
        </p:nvSpPr>
        <p:spPr>
          <a:xfrm>
            <a:off x="417600" y="5586480"/>
            <a:ext cx="3666960" cy="37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已报名圈子或者个人的列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图片 44" descr=""/>
          <p:cNvPicPr/>
          <p:nvPr/>
        </p:nvPicPr>
        <p:blipFill>
          <a:blip r:embed="rId1"/>
          <a:stretch/>
        </p:blipFill>
        <p:spPr>
          <a:xfrm>
            <a:off x="5479920" y="3316320"/>
            <a:ext cx="3025800" cy="1344600"/>
          </a:xfrm>
          <a:prstGeom prst="rect">
            <a:avLst/>
          </a:prstGeom>
          <a:ln w="0">
            <a:noFill/>
          </a:ln>
        </p:spPr>
      </p:pic>
      <p:sp>
        <p:nvSpPr>
          <p:cNvPr id="282" name="矩形 45"/>
          <p:cNvSpPr/>
          <p:nvPr/>
        </p:nvSpPr>
        <p:spPr>
          <a:xfrm>
            <a:off x="576360" y="4592520"/>
            <a:ext cx="3328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介绍：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xxxxx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上传凭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已经结束的活动，可以上传活动凭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图片支支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格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矩形 9"/>
          <p:cNvSpPr/>
          <p:nvPr/>
        </p:nvSpPr>
        <p:spPr>
          <a:xfrm>
            <a:off x="1671480" y="10904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矩形 26"/>
          <p:cNvSpPr/>
          <p:nvPr/>
        </p:nvSpPr>
        <p:spPr>
          <a:xfrm>
            <a:off x="623880" y="109044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矩形 29"/>
          <p:cNvSpPr/>
          <p:nvPr/>
        </p:nvSpPr>
        <p:spPr>
          <a:xfrm>
            <a:off x="1797120" y="1703520"/>
            <a:ext cx="1828800" cy="72684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矩形 30"/>
          <p:cNvSpPr/>
          <p:nvPr/>
        </p:nvSpPr>
        <p:spPr>
          <a:xfrm>
            <a:off x="623880" y="1703520"/>
            <a:ext cx="104940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感悟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照片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矩形 42"/>
          <p:cNvSpPr/>
          <p:nvPr/>
        </p:nvSpPr>
        <p:spPr>
          <a:xfrm>
            <a:off x="1346040" y="6213600"/>
            <a:ext cx="1810080" cy="41256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上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图片 3" descr=""/>
          <p:cNvPicPr/>
          <p:nvPr/>
        </p:nvPicPr>
        <p:blipFill>
          <a:blip r:embed="rId1"/>
          <a:stretch/>
        </p:blipFill>
        <p:spPr>
          <a:xfrm>
            <a:off x="1797120" y="265572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293" name="图片 4" descr=""/>
          <p:cNvPicPr/>
          <p:nvPr/>
        </p:nvPicPr>
        <p:blipFill>
          <a:blip r:embed="rId2"/>
          <a:stretch/>
        </p:blipFill>
        <p:spPr>
          <a:xfrm>
            <a:off x="1797120" y="381636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294" name="图片 5" descr=""/>
          <p:cNvPicPr/>
          <p:nvPr/>
        </p:nvPicPr>
        <p:blipFill>
          <a:blip r:embed="rId3"/>
          <a:stretch/>
        </p:blipFill>
        <p:spPr>
          <a:xfrm>
            <a:off x="1797120" y="5010120"/>
            <a:ext cx="1201680" cy="11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上传凭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已经结束的活动，可以上传活动凭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图片支支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格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矩形 9"/>
          <p:cNvSpPr/>
          <p:nvPr/>
        </p:nvSpPr>
        <p:spPr>
          <a:xfrm>
            <a:off x="1671480" y="10904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矩形 26"/>
          <p:cNvSpPr/>
          <p:nvPr/>
        </p:nvSpPr>
        <p:spPr>
          <a:xfrm>
            <a:off x="623880" y="109044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矩形 29"/>
          <p:cNvSpPr/>
          <p:nvPr/>
        </p:nvSpPr>
        <p:spPr>
          <a:xfrm>
            <a:off x="1797120" y="1703520"/>
            <a:ext cx="1828800" cy="72684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矩形 30"/>
          <p:cNvSpPr/>
          <p:nvPr/>
        </p:nvSpPr>
        <p:spPr>
          <a:xfrm>
            <a:off x="623880" y="1703520"/>
            <a:ext cx="104940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感悟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照片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矩形 42"/>
          <p:cNvSpPr/>
          <p:nvPr/>
        </p:nvSpPr>
        <p:spPr>
          <a:xfrm>
            <a:off x="1346040" y="6213600"/>
            <a:ext cx="1810080" cy="41256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上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图片 3" descr=""/>
          <p:cNvPicPr/>
          <p:nvPr/>
        </p:nvPicPr>
        <p:blipFill>
          <a:blip r:embed="rId1"/>
          <a:stretch/>
        </p:blipFill>
        <p:spPr>
          <a:xfrm>
            <a:off x="1797120" y="265572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305" name="图片 4" descr=""/>
          <p:cNvPicPr/>
          <p:nvPr/>
        </p:nvPicPr>
        <p:blipFill>
          <a:blip r:embed="rId2"/>
          <a:stretch/>
        </p:blipFill>
        <p:spPr>
          <a:xfrm>
            <a:off x="1797120" y="381636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306" name="图片 5" descr=""/>
          <p:cNvPicPr/>
          <p:nvPr/>
        </p:nvPicPr>
        <p:blipFill>
          <a:blip r:embed="rId3"/>
          <a:stretch/>
        </p:blipFill>
        <p:spPr>
          <a:xfrm>
            <a:off x="1797120" y="5010120"/>
            <a:ext cx="1201680" cy="11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我的圈子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显示用户当前圈子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附近的圈子搜索用户当前位置 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M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以内的圈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矩形 29"/>
          <p:cNvSpPr/>
          <p:nvPr/>
        </p:nvSpPr>
        <p:spPr>
          <a:xfrm>
            <a:off x="417600" y="909720"/>
            <a:ext cx="3666960" cy="65412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矩形 34"/>
          <p:cNvSpPr/>
          <p:nvPr/>
        </p:nvSpPr>
        <p:spPr>
          <a:xfrm>
            <a:off x="2814480" y="104148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搜索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矩形 42"/>
          <p:cNvSpPr/>
          <p:nvPr/>
        </p:nvSpPr>
        <p:spPr>
          <a:xfrm>
            <a:off x="417600" y="2303640"/>
            <a:ext cx="1809720" cy="41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我的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圆角矩形 6"/>
          <p:cNvSpPr/>
          <p:nvPr/>
        </p:nvSpPr>
        <p:spPr>
          <a:xfrm>
            <a:off x="657360" y="100008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矩形 7"/>
          <p:cNvSpPr/>
          <p:nvPr/>
        </p:nvSpPr>
        <p:spPr>
          <a:xfrm>
            <a:off x="417600" y="2716200"/>
            <a:ext cx="1828800" cy="40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我爱红领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矩形 8"/>
          <p:cNvSpPr/>
          <p:nvPr/>
        </p:nvSpPr>
        <p:spPr>
          <a:xfrm>
            <a:off x="2814480" y="272880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进入圈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圆角矩形 10"/>
          <p:cNvSpPr/>
          <p:nvPr/>
        </p:nvSpPr>
        <p:spPr>
          <a:xfrm>
            <a:off x="1243080" y="171756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建立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直接连接符 11"/>
          <p:cNvSpPr/>
          <p:nvPr/>
        </p:nvSpPr>
        <p:spPr>
          <a:xfrm>
            <a:off x="411120" y="3421080"/>
            <a:ext cx="3673440" cy="14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图片 12" descr=""/>
          <p:cNvPicPr/>
          <p:nvPr/>
        </p:nvPicPr>
        <p:blipFill>
          <a:blip r:embed="rId1"/>
          <a:stretch/>
        </p:blipFill>
        <p:spPr>
          <a:xfrm>
            <a:off x="519120" y="3583080"/>
            <a:ext cx="1981080" cy="457200"/>
          </a:xfrm>
          <a:prstGeom prst="rect">
            <a:avLst/>
          </a:prstGeom>
          <a:ln w="0">
            <a:noFill/>
          </a:ln>
        </p:spPr>
      </p:pic>
      <p:sp>
        <p:nvSpPr>
          <p:cNvPr id="319" name="椭圆 13"/>
          <p:cNvSpPr/>
          <p:nvPr/>
        </p:nvSpPr>
        <p:spPr>
          <a:xfrm>
            <a:off x="1243080" y="4309920"/>
            <a:ext cx="1800000" cy="1729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搜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我的圈子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显示用户当前圈子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附近的圈子搜索用户当前位置 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M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以内的圈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矩形 29"/>
          <p:cNvSpPr/>
          <p:nvPr/>
        </p:nvSpPr>
        <p:spPr>
          <a:xfrm>
            <a:off x="417600" y="909720"/>
            <a:ext cx="3666960" cy="65412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矩形 34"/>
          <p:cNvSpPr/>
          <p:nvPr/>
        </p:nvSpPr>
        <p:spPr>
          <a:xfrm>
            <a:off x="2814480" y="104148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搜索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矩形 42"/>
          <p:cNvSpPr/>
          <p:nvPr/>
        </p:nvSpPr>
        <p:spPr>
          <a:xfrm>
            <a:off x="417600" y="2303640"/>
            <a:ext cx="1809720" cy="41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我的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圆角矩形 6"/>
          <p:cNvSpPr/>
          <p:nvPr/>
        </p:nvSpPr>
        <p:spPr>
          <a:xfrm>
            <a:off x="657360" y="100008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矩形 7"/>
          <p:cNvSpPr/>
          <p:nvPr/>
        </p:nvSpPr>
        <p:spPr>
          <a:xfrm>
            <a:off x="417600" y="2716200"/>
            <a:ext cx="1828800" cy="40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我爱红领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矩形 8"/>
          <p:cNvSpPr/>
          <p:nvPr/>
        </p:nvSpPr>
        <p:spPr>
          <a:xfrm>
            <a:off x="2814480" y="272880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进入圈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圆角矩形 10"/>
          <p:cNvSpPr/>
          <p:nvPr/>
        </p:nvSpPr>
        <p:spPr>
          <a:xfrm>
            <a:off x="1243080" y="171756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建立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直接连接符 11"/>
          <p:cNvSpPr/>
          <p:nvPr/>
        </p:nvSpPr>
        <p:spPr>
          <a:xfrm>
            <a:off x="411120" y="3421080"/>
            <a:ext cx="3673440" cy="14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图片 12" descr=""/>
          <p:cNvPicPr/>
          <p:nvPr/>
        </p:nvPicPr>
        <p:blipFill>
          <a:blip r:embed="rId1"/>
          <a:stretch/>
        </p:blipFill>
        <p:spPr>
          <a:xfrm>
            <a:off x="519120" y="3583080"/>
            <a:ext cx="1981080" cy="457200"/>
          </a:xfrm>
          <a:prstGeom prst="rect">
            <a:avLst/>
          </a:prstGeom>
          <a:ln w="0">
            <a:noFill/>
          </a:ln>
        </p:spPr>
      </p:pic>
      <p:sp>
        <p:nvSpPr>
          <p:cNvPr id="332" name="椭圆 13"/>
          <p:cNvSpPr/>
          <p:nvPr/>
        </p:nvSpPr>
        <p:spPr>
          <a:xfrm>
            <a:off x="1243080" y="4309920"/>
            <a:ext cx="1800000" cy="1729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搜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圈子其他页面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页面布局参照：《指南针前后端原型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.pdf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共通说明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矩形 2"/>
          <p:cNvSpPr/>
          <p:nvPr/>
        </p:nvSpPr>
        <p:spPr>
          <a:xfrm>
            <a:off x="457200" y="909720"/>
            <a:ext cx="815508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所有用户注册均需获取用户的地理位置授权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发布的时候需要指定地理位置，上传参加凭证的时候，需要授权地理位置。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里以内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zhi'y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领导注册在后台根据地区领导发行二维码。限定二维码的使用期限和使用次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：都从别的平台（家校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园）过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用户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未授权获取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openid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用户登陆，首先弹出 授权页面。授权以后，进入注册页面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点击【机构认证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首先弹出【机构认证说明】同意以后，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 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在下方出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机构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法人姓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法人身份证上传【正反面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营业执照上传【正反面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其他材料【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图片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0000"/>
                </a:solidFill>
                <a:latin typeface="Arial"/>
                <a:ea typeface="宋体"/>
              </a:rPr>
              <a:t>3.</a:t>
            </a:r>
            <a:r>
              <a:rPr b="0" lang="zh-CN" sz="1500" spc="-1" strike="noStrike">
                <a:solidFill>
                  <a:srgbClr val="ff0000"/>
                </a:solidFill>
                <a:latin typeface="Arial"/>
                <a:ea typeface="宋体"/>
              </a:rPr>
              <a:t>注册成功以后非机构用户默认身份为【社会人士】，机构用户默认身份为【机构用户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注册成功以后跳转到 年龄选择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3"/>
          <p:cNvSpPr/>
          <p:nvPr/>
        </p:nvSpPr>
        <p:spPr>
          <a:xfrm>
            <a:off x="1450800" y="220032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4"/>
          <p:cNvSpPr/>
          <p:nvPr/>
        </p:nvSpPr>
        <p:spPr>
          <a:xfrm>
            <a:off x="623880" y="2200320"/>
            <a:ext cx="826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姓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5"/>
          <p:cNvSpPr/>
          <p:nvPr/>
        </p:nvSpPr>
        <p:spPr>
          <a:xfrm>
            <a:off x="1450800" y="274320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6"/>
          <p:cNvSpPr/>
          <p:nvPr/>
        </p:nvSpPr>
        <p:spPr>
          <a:xfrm>
            <a:off x="623880" y="2743200"/>
            <a:ext cx="826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手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椭圆 7"/>
          <p:cNvSpPr/>
          <p:nvPr/>
        </p:nvSpPr>
        <p:spPr>
          <a:xfrm>
            <a:off x="1467000" y="1041480"/>
            <a:ext cx="1060200" cy="104940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8"/>
          <p:cNvSpPr/>
          <p:nvPr/>
        </p:nvSpPr>
        <p:spPr>
          <a:xfrm>
            <a:off x="2257560" y="3254400"/>
            <a:ext cx="118404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机构认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9"/>
          <p:cNvSpPr/>
          <p:nvPr/>
        </p:nvSpPr>
        <p:spPr>
          <a:xfrm>
            <a:off x="1123920" y="616284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注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10"/>
          <p:cNvSpPr/>
          <p:nvPr/>
        </p:nvSpPr>
        <p:spPr>
          <a:xfrm>
            <a:off x="1982880" y="3282840"/>
            <a:ext cx="288720" cy="28584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11"/>
          <p:cNvSpPr/>
          <p:nvPr/>
        </p:nvSpPr>
        <p:spPr>
          <a:xfrm>
            <a:off x="1461960" y="375588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12"/>
          <p:cNvSpPr/>
          <p:nvPr/>
        </p:nvSpPr>
        <p:spPr>
          <a:xfrm>
            <a:off x="417600" y="3755880"/>
            <a:ext cx="12063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机构名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13"/>
          <p:cNvSpPr/>
          <p:nvPr/>
        </p:nvSpPr>
        <p:spPr>
          <a:xfrm>
            <a:off x="1467000" y="421956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14"/>
          <p:cNvSpPr/>
          <p:nvPr/>
        </p:nvSpPr>
        <p:spPr>
          <a:xfrm>
            <a:off x="422280" y="4219560"/>
            <a:ext cx="12063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法人姓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15"/>
          <p:cNvSpPr/>
          <p:nvPr/>
        </p:nvSpPr>
        <p:spPr>
          <a:xfrm>
            <a:off x="944640" y="5049720"/>
            <a:ext cx="1828800" cy="6732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  <a:ea typeface="宋体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00"/>
                </a:solidFill>
                <a:latin typeface="Arial"/>
                <a:ea typeface="宋体"/>
              </a:rPr>
              <a:t>其他项目参照右侧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用户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年龄选择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完成以后跳转到【首页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机构用户 审核通过以后，会收到【消息】，消息里面附带运营后台的地址和账号信息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3"/>
          <p:cNvSpPr/>
          <p:nvPr/>
        </p:nvSpPr>
        <p:spPr>
          <a:xfrm>
            <a:off x="977760" y="323388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3~6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4"/>
          <p:cNvSpPr/>
          <p:nvPr/>
        </p:nvSpPr>
        <p:spPr>
          <a:xfrm>
            <a:off x="635040" y="2422440"/>
            <a:ext cx="275904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请选择您的孩子的年龄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5"/>
          <p:cNvSpPr/>
          <p:nvPr/>
        </p:nvSpPr>
        <p:spPr>
          <a:xfrm>
            <a:off x="977760" y="377496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7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岁以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椭圆 7"/>
          <p:cNvSpPr/>
          <p:nvPr/>
        </p:nvSpPr>
        <p:spPr>
          <a:xfrm>
            <a:off x="1461960" y="101124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9"/>
          <p:cNvSpPr/>
          <p:nvPr/>
        </p:nvSpPr>
        <p:spPr>
          <a:xfrm>
            <a:off x="1123920" y="616284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完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家园用户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家校用户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园用户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校用户为 统一平台不用产品用户跳转而来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激活用户以后，根据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union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从平台获取对应用户的详细信息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完成授权以后，跳转到小程序首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问题点：请提供对应接口文档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4"/>
          <p:cNvSpPr/>
          <p:nvPr/>
        </p:nvSpPr>
        <p:spPr>
          <a:xfrm>
            <a:off x="801720" y="2957400"/>
            <a:ext cx="266688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欢迎来到志愿者平台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椭圆 7"/>
          <p:cNvSpPr/>
          <p:nvPr/>
        </p:nvSpPr>
        <p:spPr>
          <a:xfrm>
            <a:off x="1461960" y="108432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9"/>
          <p:cNvSpPr/>
          <p:nvPr/>
        </p:nvSpPr>
        <p:spPr>
          <a:xfrm>
            <a:off x="1123920" y="439596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进入首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领导注册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专用内页注册二维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二维码后台根据不同的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市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县，单独生成二维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红字部分为根据二维码带的参数，动态显示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举例：江苏省教育厅领导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等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注册成功以后，跳转到【首页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每个二维码限定可使用时间和注册次数等！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椭圆 7"/>
          <p:cNvSpPr/>
          <p:nvPr/>
        </p:nvSpPr>
        <p:spPr>
          <a:xfrm>
            <a:off x="1461960" y="101124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矩形 9"/>
          <p:cNvSpPr/>
          <p:nvPr/>
        </p:nvSpPr>
        <p:spPr>
          <a:xfrm>
            <a:off x="1100160" y="449892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进入首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矩形 10"/>
          <p:cNvSpPr/>
          <p:nvPr/>
        </p:nvSpPr>
        <p:spPr>
          <a:xfrm>
            <a:off x="801720" y="2435400"/>
            <a:ext cx="266688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xxxx 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领导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：欢迎来到志愿者平台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家校用户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本校发布的志愿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三部分内容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【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显示学校设置的图片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】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：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比例扁图，如没有上传，则显示一张默认的图片。（需今日提供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直播通知只显示最近的一条就好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按照发布时间的倒序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家园用户和学校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默认为系统设定图片，后台设定学校图片的情况下，显示学校设定的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家园用户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本园所发布的志愿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三部分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按照发布时间的倒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用户和园所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默认为系统设定图片，后台设定学校图片的情况下，显示学校设定的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？？？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范围内并且发布范围包含【社会人士】的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根据年龄段显示 社会实践或者亲子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当前进行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轮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教育局领导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活动，社会实践等主要是显示本局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厅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下辖学校的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按照发布时间的倒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家园用户和学校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区域管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系统默认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12-27T05:07:00Z</dcterms:created>
  <dc:creator>miya</dc:creator>
  <dc:description/>
  <dc:language>en-US</dc:language>
  <cp:lastModifiedBy>宗彪</cp:lastModifiedBy>
  <dcterms:modified xsi:type="dcterms:W3CDTF">2020-01-09T09:46:53Z</dcterms:modified>
  <cp:revision>129</cp:revision>
  <dc:subject/>
  <dc:title>画面流程图 （小程序端）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339</vt:lpwstr>
  </property>
</Properties>
</file>