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6C6A4-2140-48EA-BB36-36BDA9B8A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5CB3D-70DE-4C66-A318-AEE13B683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E263B-6BE1-46BD-BA3E-065D47110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3E303-D3A3-4B1E-88DF-276CE753E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38450-CF55-4FD3-ABCC-80B8FDC23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7C6A6-FB51-4EC6-AE8E-208502337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BBBF7-7F08-4A61-88BE-7D38B0C02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BBFB3-3320-4134-90FA-21FDD984F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E3A63-C61B-4DA2-A909-8B66D210F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9946A-6A09-461E-99E8-6D92229FD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D8BCC-B451-4D27-84C3-31CF0DABF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56313-8DD8-4C08-97B5-298DC6257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94CFA-29BB-42E8-8DF1-12BAAAC70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883A0-7006-4BF9-A3C8-6BA53659A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4D003-88E7-4712-9311-36EEB15BF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3F32C-A3E8-4EF0-9C35-0AB94776A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96C1F-50FD-49C1-B31E-A8A269A66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03354D-2F6F-43D2-B09C-D1669D99F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6B1E52-DA13-4D28-82CD-7B6E790FB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EBAA8A-9447-45E2-9403-04D14B369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A8B10E-E226-4141-BE0E-E04506BF6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8FB726-3139-490A-9A9B-D7AE68B7B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44F32-0B19-4AD1-8AA9-5B898A546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E1D0E4-EF84-4C41-8105-C10564BB7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FBB12F-5FFF-49A8-B5DD-06A9DF567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B61FB8-3516-45F2-855D-EDDEB5E81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1D6C15-96CD-408E-9EB4-2B0A59838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75CC57-7C7E-464A-A643-6DA88A9F2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B6C745-5BF0-4F51-9FA9-C497A0731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27BA22-2879-4F65-B31E-E257EAD20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99B2F-7A43-4C6C-B9CA-1F449596E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1CAE6-0481-48BF-A4FF-770444056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CF514-C759-4581-9B0E-609A6DD97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ACF9F-A9EF-4987-AB30-1B65AC14F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C208B-5761-4903-B8E5-AB652B31A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5C1C1-31B9-4C5E-8B07-66C4A4245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C4F2D-4B42-456C-9E33-60E621C4886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3C24F-101C-4907-A43B-9AF4BD88B735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AB47F-1408-4F13-9B9D-798A660FF637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画面流程图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（小程序端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报名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活动详细数据显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根据浏览人是否已经报名，按钮分为【报名】或者【取消报名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如果浏览人为【圈主】身份，则提醒是否【圈子报名】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矩形 12"/>
          <p:cNvSpPr/>
          <p:nvPr/>
        </p:nvSpPr>
        <p:spPr>
          <a:xfrm>
            <a:off x="417600" y="909720"/>
            <a:ext cx="3666960" cy="7318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详情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矩形 9"/>
          <p:cNvSpPr/>
          <p:nvPr/>
        </p:nvSpPr>
        <p:spPr>
          <a:xfrm>
            <a:off x="1628640" y="17762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矩形 26"/>
          <p:cNvSpPr/>
          <p:nvPr/>
        </p:nvSpPr>
        <p:spPr>
          <a:xfrm>
            <a:off x="581040" y="177624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矩形 29"/>
          <p:cNvSpPr/>
          <p:nvPr/>
        </p:nvSpPr>
        <p:spPr>
          <a:xfrm>
            <a:off x="1623960" y="209376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xxx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路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矩形 30"/>
          <p:cNvSpPr/>
          <p:nvPr/>
        </p:nvSpPr>
        <p:spPr>
          <a:xfrm>
            <a:off x="576360" y="209376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地点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矩形 31"/>
          <p:cNvSpPr/>
          <p:nvPr/>
        </p:nvSpPr>
        <p:spPr>
          <a:xfrm>
            <a:off x="1623960" y="243036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不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矩形 32"/>
          <p:cNvSpPr/>
          <p:nvPr/>
        </p:nvSpPr>
        <p:spPr>
          <a:xfrm>
            <a:off x="576360" y="243036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征集范围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矩形 33"/>
          <p:cNvSpPr/>
          <p:nvPr/>
        </p:nvSpPr>
        <p:spPr>
          <a:xfrm>
            <a:off x="1625760" y="276372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人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征集范围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矩形 35"/>
          <p:cNvSpPr/>
          <p:nvPr/>
        </p:nvSpPr>
        <p:spPr>
          <a:xfrm>
            <a:off x="1635120" y="308448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矩形 36"/>
          <p:cNvSpPr/>
          <p:nvPr/>
        </p:nvSpPr>
        <p:spPr>
          <a:xfrm>
            <a:off x="587520" y="308448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时长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矩形 37"/>
          <p:cNvSpPr/>
          <p:nvPr/>
        </p:nvSpPr>
        <p:spPr>
          <a:xfrm>
            <a:off x="1635120" y="3403440"/>
            <a:ext cx="227016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019.11.11-2012.11.25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矩形 38"/>
          <p:cNvSpPr/>
          <p:nvPr/>
        </p:nvSpPr>
        <p:spPr>
          <a:xfrm>
            <a:off x="587520" y="3403440"/>
            <a:ext cx="104904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期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矩形 39"/>
          <p:cNvSpPr/>
          <p:nvPr/>
        </p:nvSpPr>
        <p:spPr>
          <a:xfrm>
            <a:off x="1797120" y="3795840"/>
            <a:ext cx="2287440" cy="86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联系人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联系方式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15801992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集合地点：地铁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1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号线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5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号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集合时间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2019.11.11 12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矩形 40"/>
          <p:cNvSpPr/>
          <p:nvPr/>
        </p:nvSpPr>
        <p:spPr>
          <a:xfrm>
            <a:off x="417600" y="4983120"/>
            <a:ext cx="1857240" cy="412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圈子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矩形 41"/>
          <p:cNvSpPr/>
          <p:nvPr/>
        </p:nvSpPr>
        <p:spPr>
          <a:xfrm>
            <a:off x="2274840" y="4983120"/>
            <a:ext cx="1809720" cy="41292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个人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矩形 42"/>
          <p:cNvSpPr/>
          <p:nvPr/>
        </p:nvSpPr>
        <p:spPr>
          <a:xfrm>
            <a:off x="1254240" y="6172200"/>
            <a:ext cx="1809720" cy="41112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矩形 43"/>
          <p:cNvSpPr/>
          <p:nvPr/>
        </p:nvSpPr>
        <p:spPr>
          <a:xfrm>
            <a:off x="417600" y="5586480"/>
            <a:ext cx="3666960" cy="37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已报名圈子或者个人的列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图片 44" descr=""/>
          <p:cNvPicPr/>
          <p:nvPr/>
        </p:nvPicPr>
        <p:blipFill>
          <a:blip r:embed="rId1"/>
          <a:stretch/>
        </p:blipFill>
        <p:spPr>
          <a:xfrm>
            <a:off x="5479920" y="3316320"/>
            <a:ext cx="3025800" cy="1344600"/>
          </a:xfrm>
          <a:prstGeom prst="rect">
            <a:avLst/>
          </a:prstGeom>
          <a:ln w="0">
            <a:noFill/>
          </a:ln>
        </p:spPr>
      </p:pic>
      <p:sp>
        <p:nvSpPr>
          <p:cNvPr id="282" name="矩形 45"/>
          <p:cNvSpPr/>
          <p:nvPr/>
        </p:nvSpPr>
        <p:spPr>
          <a:xfrm>
            <a:off x="576360" y="4592520"/>
            <a:ext cx="3328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介绍：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xxxxx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上传凭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已经结束的活动，可以上传活动凭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图片支支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格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矩形 9"/>
          <p:cNvSpPr/>
          <p:nvPr/>
        </p:nvSpPr>
        <p:spPr>
          <a:xfrm>
            <a:off x="1671480" y="10904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矩形 26"/>
          <p:cNvSpPr/>
          <p:nvPr/>
        </p:nvSpPr>
        <p:spPr>
          <a:xfrm>
            <a:off x="623880" y="109044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矩形 29"/>
          <p:cNvSpPr/>
          <p:nvPr/>
        </p:nvSpPr>
        <p:spPr>
          <a:xfrm>
            <a:off x="1797120" y="1703520"/>
            <a:ext cx="1828800" cy="72684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矩形 30"/>
          <p:cNvSpPr/>
          <p:nvPr/>
        </p:nvSpPr>
        <p:spPr>
          <a:xfrm>
            <a:off x="623880" y="1703520"/>
            <a:ext cx="104940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感悟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照片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矩形 42"/>
          <p:cNvSpPr/>
          <p:nvPr/>
        </p:nvSpPr>
        <p:spPr>
          <a:xfrm>
            <a:off x="1346040" y="6213600"/>
            <a:ext cx="1810080" cy="41256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上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图片 3" descr=""/>
          <p:cNvPicPr/>
          <p:nvPr/>
        </p:nvPicPr>
        <p:blipFill>
          <a:blip r:embed="rId1"/>
          <a:stretch/>
        </p:blipFill>
        <p:spPr>
          <a:xfrm>
            <a:off x="1797120" y="265572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293" name="图片 4" descr=""/>
          <p:cNvPicPr/>
          <p:nvPr/>
        </p:nvPicPr>
        <p:blipFill>
          <a:blip r:embed="rId2"/>
          <a:stretch/>
        </p:blipFill>
        <p:spPr>
          <a:xfrm>
            <a:off x="1797120" y="381636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294" name="图片 5" descr=""/>
          <p:cNvPicPr/>
          <p:nvPr/>
        </p:nvPicPr>
        <p:blipFill>
          <a:blip r:embed="rId3"/>
          <a:stretch/>
        </p:blipFill>
        <p:spPr>
          <a:xfrm>
            <a:off x="1797120" y="5010120"/>
            <a:ext cx="1201680" cy="11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上传凭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已经结束的活动，可以上传活动凭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图片支支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格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矩形 9"/>
          <p:cNvSpPr/>
          <p:nvPr/>
        </p:nvSpPr>
        <p:spPr>
          <a:xfrm>
            <a:off x="1671480" y="10904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矩形 26"/>
          <p:cNvSpPr/>
          <p:nvPr/>
        </p:nvSpPr>
        <p:spPr>
          <a:xfrm>
            <a:off x="623880" y="109044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矩形 29"/>
          <p:cNvSpPr/>
          <p:nvPr/>
        </p:nvSpPr>
        <p:spPr>
          <a:xfrm>
            <a:off x="1797120" y="1703520"/>
            <a:ext cx="1828800" cy="72684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矩形 30"/>
          <p:cNvSpPr/>
          <p:nvPr/>
        </p:nvSpPr>
        <p:spPr>
          <a:xfrm>
            <a:off x="623880" y="1703520"/>
            <a:ext cx="104940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感悟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照片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矩形 42"/>
          <p:cNvSpPr/>
          <p:nvPr/>
        </p:nvSpPr>
        <p:spPr>
          <a:xfrm>
            <a:off x="1346040" y="6213600"/>
            <a:ext cx="1810080" cy="41256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上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图片 3" descr=""/>
          <p:cNvPicPr/>
          <p:nvPr/>
        </p:nvPicPr>
        <p:blipFill>
          <a:blip r:embed="rId1"/>
          <a:stretch/>
        </p:blipFill>
        <p:spPr>
          <a:xfrm>
            <a:off x="1797120" y="265572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305" name="图片 4" descr=""/>
          <p:cNvPicPr/>
          <p:nvPr/>
        </p:nvPicPr>
        <p:blipFill>
          <a:blip r:embed="rId2"/>
          <a:stretch/>
        </p:blipFill>
        <p:spPr>
          <a:xfrm>
            <a:off x="1797120" y="381636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306" name="图片 5" descr=""/>
          <p:cNvPicPr/>
          <p:nvPr/>
        </p:nvPicPr>
        <p:blipFill>
          <a:blip r:embed="rId3"/>
          <a:stretch/>
        </p:blipFill>
        <p:spPr>
          <a:xfrm>
            <a:off x="1797120" y="5010120"/>
            <a:ext cx="1201680" cy="11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我的圈子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显示用户当前圈子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附近的圈子搜索用户当前位置 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M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以内的圈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矩形 29"/>
          <p:cNvSpPr/>
          <p:nvPr/>
        </p:nvSpPr>
        <p:spPr>
          <a:xfrm>
            <a:off x="417600" y="909720"/>
            <a:ext cx="3666960" cy="65412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矩形 34"/>
          <p:cNvSpPr/>
          <p:nvPr/>
        </p:nvSpPr>
        <p:spPr>
          <a:xfrm>
            <a:off x="2814480" y="104148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搜索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矩形 42"/>
          <p:cNvSpPr/>
          <p:nvPr/>
        </p:nvSpPr>
        <p:spPr>
          <a:xfrm>
            <a:off x="417600" y="2303640"/>
            <a:ext cx="1809720" cy="41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我的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圆角矩形 6"/>
          <p:cNvSpPr/>
          <p:nvPr/>
        </p:nvSpPr>
        <p:spPr>
          <a:xfrm>
            <a:off x="657360" y="100008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矩形 7"/>
          <p:cNvSpPr/>
          <p:nvPr/>
        </p:nvSpPr>
        <p:spPr>
          <a:xfrm>
            <a:off x="417600" y="2716200"/>
            <a:ext cx="1828800" cy="40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我爱红领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矩形 8"/>
          <p:cNvSpPr/>
          <p:nvPr/>
        </p:nvSpPr>
        <p:spPr>
          <a:xfrm>
            <a:off x="2814480" y="272880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进入圈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圆角矩形 10"/>
          <p:cNvSpPr/>
          <p:nvPr/>
        </p:nvSpPr>
        <p:spPr>
          <a:xfrm>
            <a:off x="1243080" y="171756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建立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直接连接符 11"/>
          <p:cNvSpPr/>
          <p:nvPr/>
        </p:nvSpPr>
        <p:spPr>
          <a:xfrm>
            <a:off x="411120" y="3421080"/>
            <a:ext cx="3673440" cy="14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图片 12" descr=""/>
          <p:cNvPicPr/>
          <p:nvPr/>
        </p:nvPicPr>
        <p:blipFill>
          <a:blip r:embed="rId1"/>
          <a:stretch/>
        </p:blipFill>
        <p:spPr>
          <a:xfrm>
            <a:off x="519120" y="3583080"/>
            <a:ext cx="1981080" cy="457200"/>
          </a:xfrm>
          <a:prstGeom prst="rect">
            <a:avLst/>
          </a:prstGeom>
          <a:ln w="0">
            <a:noFill/>
          </a:ln>
        </p:spPr>
      </p:pic>
      <p:sp>
        <p:nvSpPr>
          <p:cNvPr id="319" name="椭圆 13"/>
          <p:cNvSpPr/>
          <p:nvPr/>
        </p:nvSpPr>
        <p:spPr>
          <a:xfrm>
            <a:off x="1243080" y="4309920"/>
            <a:ext cx="1800000" cy="1729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搜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我的圈子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显示用户当前圈子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附近的圈子搜索用户当前位置 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M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以内的圈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矩形 29"/>
          <p:cNvSpPr/>
          <p:nvPr/>
        </p:nvSpPr>
        <p:spPr>
          <a:xfrm>
            <a:off x="417600" y="909720"/>
            <a:ext cx="3666960" cy="65412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矩形 34"/>
          <p:cNvSpPr/>
          <p:nvPr/>
        </p:nvSpPr>
        <p:spPr>
          <a:xfrm>
            <a:off x="2814480" y="104148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搜索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矩形 42"/>
          <p:cNvSpPr/>
          <p:nvPr/>
        </p:nvSpPr>
        <p:spPr>
          <a:xfrm>
            <a:off x="417600" y="2303640"/>
            <a:ext cx="1809720" cy="41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我的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圆角矩形 6"/>
          <p:cNvSpPr/>
          <p:nvPr/>
        </p:nvSpPr>
        <p:spPr>
          <a:xfrm>
            <a:off x="657360" y="100008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矩形 7"/>
          <p:cNvSpPr/>
          <p:nvPr/>
        </p:nvSpPr>
        <p:spPr>
          <a:xfrm>
            <a:off x="417600" y="2716200"/>
            <a:ext cx="1828800" cy="40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我爱红领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矩形 8"/>
          <p:cNvSpPr/>
          <p:nvPr/>
        </p:nvSpPr>
        <p:spPr>
          <a:xfrm>
            <a:off x="2814480" y="272880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进入圈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圆角矩形 10"/>
          <p:cNvSpPr/>
          <p:nvPr/>
        </p:nvSpPr>
        <p:spPr>
          <a:xfrm>
            <a:off x="1243080" y="171756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建立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直接连接符 11"/>
          <p:cNvSpPr/>
          <p:nvPr/>
        </p:nvSpPr>
        <p:spPr>
          <a:xfrm>
            <a:off x="411120" y="3421080"/>
            <a:ext cx="3673440" cy="14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图片 12" descr=""/>
          <p:cNvPicPr/>
          <p:nvPr/>
        </p:nvPicPr>
        <p:blipFill>
          <a:blip r:embed="rId1"/>
          <a:stretch/>
        </p:blipFill>
        <p:spPr>
          <a:xfrm>
            <a:off x="519120" y="3583080"/>
            <a:ext cx="1981080" cy="457200"/>
          </a:xfrm>
          <a:prstGeom prst="rect">
            <a:avLst/>
          </a:prstGeom>
          <a:ln w="0">
            <a:noFill/>
          </a:ln>
        </p:spPr>
      </p:pic>
      <p:sp>
        <p:nvSpPr>
          <p:cNvPr id="332" name="椭圆 13"/>
          <p:cNvSpPr/>
          <p:nvPr/>
        </p:nvSpPr>
        <p:spPr>
          <a:xfrm>
            <a:off x="1243080" y="4309920"/>
            <a:ext cx="1800000" cy="1729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搜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圈子其他页面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页面布局参照：《指南针前后端原型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.pdf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共通说明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矩形 2"/>
          <p:cNvSpPr/>
          <p:nvPr/>
        </p:nvSpPr>
        <p:spPr>
          <a:xfrm>
            <a:off x="457200" y="909720"/>
            <a:ext cx="815508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所有用户注册均需获取用户的地理位置授权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发布的时候需要指定地理位置，上传参加凭证的时候，需要授权地理位置。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里以内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zhi'y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领导注册在后台根据地区领导发行二维码。限定二维码的使用期限和使用次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：都从别的平台（家校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园）过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用户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未授权获取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openid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用户登陆，首先弹出 授权页面。授权以后，进入注册页面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点击【机构认证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首先弹出【机构认证说明】同意以后，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 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在下方出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机构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法人姓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法人身份证上传【正反面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营业执照上传【正反面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其他材料【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图片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0000"/>
                </a:solidFill>
                <a:latin typeface="Arial"/>
                <a:ea typeface="宋体"/>
              </a:rPr>
              <a:t>3.</a:t>
            </a:r>
            <a:r>
              <a:rPr b="0" lang="zh-CN" sz="1500" spc="-1" strike="noStrike">
                <a:solidFill>
                  <a:srgbClr val="ff0000"/>
                </a:solidFill>
                <a:latin typeface="Arial"/>
                <a:ea typeface="宋体"/>
              </a:rPr>
              <a:t>注册成功以后非机构用户默认身份为【社会人士】，机构用户默认身份为【机构用户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注册成功以后跳转到 年龄选择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3"/>
          <p:cNvSpPr/>
          <p:nvPr/>
        </p:nvSpPr>
        <p:spPr>
          <a:xfrm>
            <a:off x="1450800" y="220032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4"/>
          <p:cNvSpPr/>
          <p:nvPr/>
        </p:nvSpPr>
        <p:spPr>
          <a:xfrm>
            <a:off x="623880" y="2200320"/>
            <a:ext cx="826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姓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5"/>
          <p:cNvSpPr/>
          <p:nvPr/>
        </p:nvSpPr>
        <p:spPr>
          <a:xfrm>
            <a:off x="1450800" y="274320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6"/>
          <p:cNvSpPr/>
          <p:nvPr/>
        </p:nvSpPr>
        <p:spPr>
          <a:xfrm>
            <a:off x="623880" y="2743200"/>
            <a:ext cx="826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手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椭圆 7"/>
          <p:cNvSpPr/>
          <p:nvPr/>
        </p:nvSpPr>
        <p:spPr>
          <a:xfrm>
            <a:off x="1467000" y="1041480"/>
            <a:ext cx="1060200" cy="104940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8"/>
          <p:cNvSpPr/>
          <p:nvPr/>
        </p:nvSpPr>
        <p:spPr>
          <a:xfrm>
            <a:off x="2257560" y="3254400"/>
            <a:ext cx="118404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机构认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9"/>
          <p:cNvSpPr/>
          <p:nvPr/>
        </p:nvSpPr>
        <p:spPr>
          <a:xfrm>
            <a:off x="1123920" y="616284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注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10"/>
          <p:cNvSpPr/>
          <p:nvPr/>
        </p:nvSpPr>
        <p:spPr>
          <a:xfrm>
            <a:off x="1982880" y="3282840"/>
            <a:ext cx="288720" cy="28584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11"/>
          <p:cNvSpPr/>
          <p:nvPr/>
        </p:nvSpPr>
        <p:spPr>
          <a:xfrm>
            <a:off x="1461960" y="375588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12"/>
          <p:cNvSpPr/>
          <p:nvPr/>
        </p:nvSpPr>
        <p:spPr>
          <a:xfrm>
            <a:off x="417600" y="3755880"/>
            <a:ext cx="12063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机构名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13"/>
          <p:cNvSpPr/>
          <p:nvPr/>
        </p:nvSpPr>
        <p:spPr>
          <a:xfrm>
            <a:off x="1467000" y="421956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14"/>
          <p:cNvSpPr/>
          <p:nvPr/>
        </p:nvSpPr>
        <p:spPr>
          <a:xfrm>
            <a:off x="422280" y="4219560"/>
            <a:ext cx="12063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法人姓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15"/>
          <p:cNvSpPr/>
          <p:nvPr/>
        </p:nvSpPr>
        <p:spPr>
          <a:xfrm>
            <a:off x="944640" y="5049720"/>
            <a:ext cx="1828800" cy="6732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  <a:ea typeface="宋体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00"/>
                </a:solidFill>
                <a:latin typeface="Arial"/>
                <a:ea typeface="宋体"/>
              </a:rPr>
              <a:t>其他项目参照右侧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用户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年龄选择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完成以后跳转到【首页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机构用户 审核通过以后，会收到【消息】，消息里面附带运营后台的地址和账号信息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3"/>
          <p:cNvSpPr/>
          <p:nvPr/>
        </p:nvSpPr>
        <p:spPr>
          <a:xfrm>
            <a:off x="977760" y="323388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3~6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4"/>
          <p:cNvSpPr/>
          <p:nvPr/>
        </p:nvSpPr>
        <p:spPr>
          <a:xfrm>
            <a:off x="635040" y="2422440"/>
            <a:ext cx="275904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请选择您的孩子的年龄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5"/>
          <p:cNvSpPr/>
          <p:nvPr/>
        </p:nvSpPr>
        <p:spPr>
          <a:xfrm>
            <a:off x="977760" y="377496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7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岁以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椭圆 7"/>
          <p:cNvSpPr/>
          <p:nvPr/>
        </p:nvSpPr>
        <p:spPr>
          <a:xfrm>
            <a:off x="1461960" y="101124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9"/>
          <p:cNvSpPr/>
          <p:nvPr/>
        </p:nvSpPr>
        <p:spPr>
          <a:xfrm>
            <a:off x="1123920" y="616284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完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家园用户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家校用户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园用户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校用户为 统一平台不用产品用户跳转而来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激活用户以后，根据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union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从平台获取对应用户的详细信息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完成授权以后，跳转到小程序首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问题点：请提供对应接口文档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4"/>
          <p:cNvSpPr/>
          <p:nvPr/>
        </p:nvSpPr>
        <p:spPr>
          <a:xfrm>
            <a:off x="801720" y="2957400"/>
            <a:ext cx="266688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欢迎来到志愿者平台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椭圆 7"/>
          <p:cNvSpPr/>
          <p:nvPr/>
        </p:nvSpPr>
        <p:spPr>
          <a:xfrm>
            <a:off x="1461960" y="108432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9"/>
          <p:cNvSpPr/>
          <p:nvPr/>
        </p:nvSpPr>
        <p:spPr>
          <a:xfrm>
            <a:off x="1123920" y="439596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进入首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领导注册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专用内页注册二维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二维码后台根据不同的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市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县，单独生成二维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红字部分为根据二维码带的参数，动态显示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举例：江苏省教育厅领导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等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注册成功以后，跳转到【首页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每个二维码限定可使用时间和注册次数等！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椭圆 7"/>
          <p:cNvSpPr/>
          <p:nvPr/>
        </p:nvSpPr>
        <p:spPr>
          <a:xfrm>
            <a:off x="1461960" y="101124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矩形 9"/>
          <p:cNvSpPr/>
          <p:nvPr/>
        </p:nvSpPr>
        <p:spPr>
          <a:xfrm>
            <a:off x="1100160" y="449892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进入首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矩形 10"/>
          <p:cNvSpPr/>
          <p:nvPr/>
        </p:nvSpPr>
        <p:spPr>
          <a:xfrm>
            <a:off x="801720" y="2435400"/>
            <a:ext cx="266688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xxxx 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领导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：欢迎来到志愿者平台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家校用户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本校发布的志愿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三部分内容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【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显示学校设置的图片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】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：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比例扁图，如没有上传，则显示一张默认的图片。（需今日提供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直播通知只显示最近的一条就好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按照发布时间的倒序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家园用户和学校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默认为系统设定图片，后台设定学校图片的情况下，显示学校设定的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家园用户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本园所发布的志愿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三部分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按照发布时间的倒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用户和园所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默认为系统设定图片，后台设定学校图片的情况下，显示学校设定的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？？？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范围内并且发布范围包含【社会人士】的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根据年龄段显示 社会实践或者亲子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当前进行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轮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教育局领导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活动，社会实践等主要是显示本局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厅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下辖学校的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按照发布时间的倒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家园用户和学校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区域管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系统默认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12-27T05:07:00Z</dcterms:created>
  <dc:creator>miya</dc:creator>
  <dc:description/>
  <dc:language>en-US</dc:language>
  <cp:lastModifiedBy>宗彪</cp:lastModifiedBy>
  <dcterms:modified xsi:type="dcterms:W3CDTF">2020-01-09T09:46:53Z</dcterms:modified>
  <cp:revision>129</cp:revision>
  <dc:subject/>
  <dc:title>画面流程图 （小程序端）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339</vt:lpwstr>
  </property>
</Properties>
</file>