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0FFA-574B-4A5C-BC4D-019798A0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56E5-314F-4B9E-9DEB-D50CF1B2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B596-AFC2-4882-BFBE-A19FC4C4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8537-85C9-48A2-A660-3AE042C2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D93D-4F6F-47FD-8906-1CB213B5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A2E7-2E83-4D8D-AF10-FE0E84D8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B7F7-E137-41F3-B9B3-0C0697AF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18A0-BF0A-4690-9E1E-BB2EE166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374B-9EF9-4BD1-AF0E-C296BDD2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1CEE-B27F-4837-A8AA-AA1B5266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7540-9591-48D4-8D44-531AB438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3D6E-BC2E-4202-A801-043CA925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7A01-12B3-4787-B589-FAF74BD5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6A52-F366-4D47-9301-9A3F465C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05B7-4D7C-4CD2-BC61-B522C0FD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D324-9BBD-4E9B-B926-5D238CC8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566B-7D2E-475C-ACDD-145CD3D1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F38D8-3FC7-4558-8761-9D3DD476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B56E6-53E2-42A9-98DF-24AC846B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B86F9-3B07-4FF3-8476-E75F9CD2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79BE9-C1BE-4B55-B7D7-ABF642E9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8569F-134F-41B6-B6D8-84E61E40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29E9-5FCF-470D-9D3D-D9DE6DCF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97D0C-7C04-4680-88E2-6A978B4A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4C0EF-4E41-4784-BEB9-E4AA1DD8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3F553-72D2-414A-AD48-326C5D91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82F3F-15BB-4787-BE93-C0CF89CD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F5B9A-EF19-4643-98EF-543DC69A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EDB87-6BC2-418C-87F8-27CCC324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E3923-9A4C-45B7-BF59-C4A7FFE4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D2E6-2260-4D3A-B745-797606E9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1092-8BFC-4635-9E6A-D746E1E0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1FB1-3B54-4CC3-8498-A809F819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9687-74B2-4FBA-93A5-DA5FF61F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884E-65E0-43C2-9BC2-9E465661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B051-A363-4A20-AD93-E6624FA4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BE3C-6DC6-4AAE-8950-F5D56D42CC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4210-24D6-4430-A586-40BD9D3B259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70BE-1052-4544-93FC-F8DA4FE2E09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6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23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激活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1450800" y="32050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623880" y="320508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1450800" y="3747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/>
          <p:cNvSpPr/>
          <p:nvPr/>
        </p:nvSpPr>
        <p:spPr>
          <a:xfrm>
            <a:off x="623880" y="374796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2T07:15:11Z</dcterms:modified>
  <cp:revision>122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