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CC5F2-B238-415A-AE6B-BB3C2265E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342A-2D79-412F-8EAD-3921EFE5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2E512-4D8D-4E87-974A-428045D75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DC2F1-6753-4C23-BD79-CF35E9B06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3F5F3-8563-4885-966C-72FB47306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DD815-E6D0-41B2-AD33-F11FF88082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3FDE5-C5F3-429D-BC9A-7803EF60F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7743E-B4D0-4D20-82CF-56551D9BA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D277E-8E6B-4AC7-AB8A-1F4F599DF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45C47-EB40-4221-A0A1-6E98B4FDB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D6ACA-DBEF-4434-9A6B-30D521123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6987-B999-4086-820A-938330E4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BE2C7-EF56-40F1-9B73-C782BB470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5B867-67FC-4320-A6D1-135EC2F4D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C08FD-E477-4972-AC3E-69CE36C97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FCE96-82B0-489C-B052-F283B34E3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07F7F-4027-4210-9999-CB4FC02BD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9F6DE-D20C-4F7B-90AA-8915C61BE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BF0AB-044B-4970-B497-974A5910E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D6C7D5-6F4D-44D3-8A7F-C5E41103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E9AB53-EA53-436B-AFF4-F563F6C48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5559CE-DD40-4D0F-BE43-EF34576F6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7814-4E7C-4161-8F1F-6766458E4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EFCA28-099A-45D9-BFFD-BEBAEEADC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57AC23-93D8-4DAF-B631-9E5D0C12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5EDF48-F234-4286-830F-C553B4A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9C5894-9C66-49E8-BF33-8F5428756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F74A-283B-4224-BE12-6FDACFC5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050BEF-3EB6-40E8-9DFD-20DA87B6BD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B15BC5-85A4-4EBE-9BAC-7C9D06C76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CEE3-683B-4A71-A211-22E6B9495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0E17-B578-48CD-A413-72EE035BB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C59B-BCC3-4048-AF3F-2B7C185AF9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217C-3A80-4EEB-9408-2E51FB5B2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CBC5A-E204-4C01-8686-484720E60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4EFD-8006-4731-9B76-2C175F0C5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3FA44-E9C1-4085-895A-998C8BFB3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E7FF4-A93C-423A-921C-847202AE10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885A-F1DB-4950-9B9E-95B7F711B6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面流程图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（小程序端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报名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详细数据显示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浏览人是否已经报名，按钮分为【报名】或者【取消报名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如果浏览人为【圈主】身份，则提醒是否【圈子报名】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2"/>
          <p:cNvSpPr/>
          <p:nvPr/>
        </p:nvSpPr>
        <p:spPr>
          <a:xfrm>
            <a:off x="417600" y="909720"/>
            <a:ext cx="3666960" cy="73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详情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9"/>
          <p:cNvSpPr/>
          <p:nvPr/>
        </p:nvSpPr>
        <p:spPr>
          <a:xfrm>
            <a:off x="1628640" y="17762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26"/>
          <p:cNvSpPr/>
          <p:nvPr/>
        </p:nvSpPr>
        <p:spPr>
          <a:xfrm>
            <a:off x="581040" y="177624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29"/>
          <p:cNvSpPr/>
          <p:nvPr/>
        </p:nvSpPr>
        <p:spPr>
          <a:xfrm>
            <a:off x="1623960" y="20937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路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30"/>
          <p:cNvSpPr/>
          <p:nvPr/>
        </p:nvSpPr>
        <p:spPr>
          <a:xfrm>
            <a:off x="576360" y="209376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地点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31"/>
          <p:cNvSpPr/>
          <p:nvPr/>
        </p:nvSpPr>
        <p:spPr>
          <a:xfrm>
            <a:off x="1623960" y="243036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不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32"/>
          <p:cNvSpPr/>
          <p:nvPr/>
        </p:nvSpPr>
        <p:spPr>
          <a:xfrm>
            <a:off x="576360" y="243036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33"/>
          <p:cNvSpPr/>
          <p:nvPr/>
        </p:nvSpPr>
        <p:spPr>
          <a:xfrm>
            <a:off x="1625760" y="276372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人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征集范围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矩形 35"/>
          <p:cNvSpPr/>
          <p:nvPr/>
        </p:nvSpPr>
        <p:spPr>
          <a:xfrm>
            <a:off x="1635120" y="308448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h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矩形 36"/>
          <p:cNvSpPr/>
          <p:nvPr/>
        </p:nvSpPr>
        <p:spPr>
          <a:xfrm>
            <a:off x="587520" y="3084480"/>
            <a:ext cx="10476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时长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矩形 37"/>
          <p:cNvSpPr/>
          <p:nvPr/>
        </p:nvSpPr>
        <p:spPr>
          <a:xfrm>
            <a:off x="1635120" y="3403440"/>
            <a:ext cx="227016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019.11.11-2012.11.25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38"/>
          <p:cNvSpPr/>
          <p:nvPr/>
        </p:nvSpPr>
        <p:spPr>
          <a:xfrm>
            <a:off x="587520" y="3403440"/>
            <a:ext cx="104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期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39"/>
          <p:cNvSpPr/>
          <p:nvPr/>
        </p:nvSpPr>
        <p:spPr>
          <a:xfrm>
            <a:off x="1797120" y="3795840"/>
            <a:ext cx="228744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人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xxx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联系方式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5801992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地点：地铁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线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5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号口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集合时间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2019.11.11 12</a:t>
            </a: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矩形 40"/>
          <p:cNvSpPr/>
          <p:nvPr/>
        </p:nvSpPr>
        <p:spPr>
          <a:xfrm>
            <a:off x="417600" y="4983120"/>
            <a:ext cx="1857240" cy="412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圈子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矩形 41"/>
          <p:cNvSpPr/>
          <p:nvPr/>
        </p:nvSpPr>
        <p:spPr>
          <a:xfrm>
            <a:off x="2274840" y="4983120"/>
            <a:ext cx="1809720" cy="4129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个人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矩形 42"/>
          <p:cNvSpPr/>
          <p:nvPr/>
        </p:nvSpPr>
        <p:spPr>
          <a:xfrm>
            <a:off x="1254240" y="6172200"/>
            <a:ext cx="1809720" cy="41112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报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43"/>
          <p:cNvSpPr/>
          <p:nvPr/>
        </p:nvSpPr>
        <p:spPr>
          <a:xfrm>
            <a:off x="417600" y="5586480"/>
            <a:ext cx="36669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已报名圈子或者个人的列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图片 44" descr=""/>
          <p:cNvPicPr/>
          <p:nvPr/>
        </p:nvPicPr>
        <p:blipFill>
          <a:blip r:embed="rId1"/>
          <a:stretch/>
        </p:blipFill>
        <p:spPr>
          <a:xfrm>
            <a:off x="5479920" y="3316320"/>
            <a:ext cx="3025800" cy="1344600"/>
          </a:xfrm>
          <a:prstGeom prst="rect">
            <a:avLst/>
          </a:prstGeom>
          <a:ln w="0">
            <a:noFill/>
          </a:ln>
        </p:spPr>
      </p:pic>
      <p:sp>
        <p:nvSpPr>
          <p:cNvPr id="282" name="矩形 45"/>
          <p:cNvSpPr/>
          <p:nvPr/>
        </p:nvSpPr>
        <p:spPr>
          <a:xfrm>
            <a:off x="576360" y="4592520"/>
            <a:ext cx="3328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介绍：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xxxxx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3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294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志愿者活动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上传凭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已经结束的活动，可以上传活动凭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图片支支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格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矩形 9"/>
          <p:cNvSpPr/>
          <p:nvPr/>
        </p:nvSpPr>
        <p:spPr>
          <a:xfrm>
            <a:off x="1671480" y="1090440"/>
            <a:ext cx="182880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马群街道卫生清理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矩形 26"/>
          <p:cNvSpPr/>
          <p:nvPr/>
        </p:nvSpPr>
        <p:spPr>
          <a:xfrm>
            <a:off x="623880" y="1090440"/>
            <a:ext cx="104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矩形 29"/>
          <p:cNvSpPr/>
          <p:nvPr/>
        </p:nvSpPr>
        <p:spPr>
          <a:xfrm>
            <a:off x="1797120" y="1703520"/>
            <a:ext cx="1828800" cy="72684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30"/>
          <p:cNvSpPr/>
          <p:nvPr/>
        </p:nvSpPr>
        <p:spPr>
          <a:xfrm>
            <a:off x="623880" y="1703520"/>
            <a:ext cx="104940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感悟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4"/>
          <p:cNvSpPr/>
          <p:nvPr/>
        </p:nvSpPr>
        <p:spPr>
          <a:xfrm>
            <a:off x="577800" y="2763720"/>
            <a:ext cx="10479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活动照片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2"/>
          <p:cNvSpPr/>
          <p:nvPr/>
        </p:nvSpPr>
        <p:spPr>
          <a:xfrm>
            <a:off x="1346040" y="6213600"/>
            <a:ext cx="1810080" cy="412560"/>
          </a:xfrm>
          <a:prstGeom prst="rect">
            <a:avLst/>
          </a:prstGeom>
          <a:solidFill>
            <a:srgbClr val="333399"/>
          </a:solidFill>
          <a:ln w="12600">
            <a:solidFill>
              <a:srgbClr val="2323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上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" name="图片 3" descr=""/>
          <p:cNvPicPr/>
          <p:nvPr/>
        </p:nvPicPr>
        <p:blipFill>
          <a:blip r:embed="rId1"/>
          <a:stretch/>
        </p:blipFill>
        <p:spPr>
          <a:xfrm>
            <a:off x="1797120" y="265572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5" name="图片 4" descr=""/>
          <p:cNvPicPr/>
          <p:nvPr/>
        </p:nvPicPr>
        <p:blipFill>
          <a:blip r:embed="rId2"/>
          <a:stretch/>
        </p:blipFill>
        <p:spPr>
          <a:xfrm>
            <a:off x="1797120" y="3816360"/>
            <a:ext cx="1201680" cy="1100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5" descr=""/>
          <p:cNvPicPr/>
          <p:nvPr/>
        </p:nvPicPr>
        <p:blipFill>
          <a:blip r:embed="rId3"/>
          <a:stretch/>
        </p:blipFill>
        <p:spPr>
          <a:xfrm>
            <a:off x="1797120" y="5010120"/>
            <a:ext cx="1201680" cy="11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19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我的圈子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显示用户当前圈子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附近的圈子搜索用户当前位置 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M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以内的圈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矩形 29"/>
          <p:cNvSpPr/>
          <p:nvPr/>
        </p:nvSpPr>
        <p:spPr>
          <a:xfrm>
            <a:off x="417600" y="909720"/>
            <a:ext cx="3666960" cy="654120"/>
          </a:xfrm>
          <a:prstGeom prst="rect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矩形 34"/>
          <p:cNvSpPr/>
          <p:nvPr/>
        </p:nvSpPr>
        <p:spPr>
          <a:xfrm>
            <a:off x="2814480" y="104148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搜索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矩形 42"/>
          <p:cNvSpPr/>
          <p:nvPr/>
        </p:nvSpPr>
        <p:spPr>
          <a:xfrm>
            <a:off x="417600" y="2303640"/>
            <a:ext cx="1809720" cy="412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我的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圆角矩形 6"/>
          <p:cNvSpPr/>
          <p:nvPr/>
        </p:nvSpPr>
        <p:spPr>
          <a:xfrm>
            <a:off x="657360" y="100008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矩形 7"/>
          <p:cNvSpPr/>
          <p:nvPr/>
        </p:nvSpPr>
        <p:spPr>
          <a:xfrm>
            <a:off x="417600" y="2716200"/>
            <a:ext cx="1828800" cy="40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我爱红领巾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8"/>
          <p:cNvSpPr/>
          <p:nvPr/>
        </p:nvSpPr>
        <p:spPr>
          <a:xfrm>
            <a:off x="2814480" y="2728800"/>
            <a:ext cx="1047960" cy="390600"/>
          </a:xfrm>
          <a:prstGeom prst="rect">
            <a:avLst/>
          </a:prstGeom>
          <a:gradFill rotWithShape="0">
            <a:gsLst>
              <a:gs pos="0">
                <a:srgbClr val="9b9b9b"/>
              </a:gs>
              <a:gs pos="100000">
                <a:srgbClr val="797979"/>
              </a:gs>
            </a:gsLst>
            <a:lin ang="5400000"/>
          </a:gra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ffffff"/>
                </a:solidFill>
                <a:latin typeface="Arial"/>
                <a:ea typeface="宋体"/>
              </a:rPr>
              <a:t>进入圈子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圆角矩形 10"/>
          <p:cNvSpPr/>
          <p:nvPr/>
        </p:nvSpPr>
        <p:spPr>
          <a:xfrm>
            <a:off x="1243080" y="1717560"/>
            <a:ext cx="2016000" cy="432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建立圈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直接连接符 11"/>
          <p:cNvSpPr/>
          <p:nvPr/>
        </p:nvSpPr>
        <p:spPr>
          <a:xfrm>
            <a:off x="411120" y="3421080"/>
            <a:ext cx="3673440" cy="1440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1" name="图片 12" descr=""/>
          <p:cNvPicPr/>
          <p:nvPr/>
        </p:nvPicPr>
        <p:blipFill>
          <a:blip r:embed="rId1"/>
          <a:stretch/>
        </p:blipFill>
        <p:spPr>
          <a:xfrm>
            <a:off x="519120" y="3583080"/>
            <a:ext cx="1981080" cy="457200"/>
          </a:xfrm>
          <a:prstGeom prst="rect">
            <a:avLst/>
          </a:prstGeom>
          <a:ln w="0">
            <a:noFill/>
          </a:ln>
        </p:spPr>
      </p:pic>
      <p:sp>
        <p:nvSpPr>
          <p:cNvPr id="332" name="椭圆 13"/>
          <p:cNvSpPr/>
          <p:nvPr/>
        </p:nvSpPr>
        <p:spPr>
          <a:xfrm>
            <a:off x="1243080" y="4309920"/>
            <a:ext cx="1800000" cy="17290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  <a:ea typeface="宋体"/>
              </a:rPr>
              <a:t>搜索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圈子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圈子其他页面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页面布局参照：《指南针前后端原型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.pdf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共通说明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"/>
          <p:cNvSpPr/>
          <p:nvPr/>
        </p:nvSpPr>
        <p:spPr>
          <a:xfrm>
            <a:off x="457200" y="909720"/>
            <a:ext cx="815508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所有用户注册均需获取用户的地理位置授权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发布的时候需要指定地理位置，上传参加凭证的时候，需要授权地理位置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里以内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zhi'y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领导注册在后台根据地区领导发行二维码。限定二维码的使用期限和使用次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：都从别的平台（家校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）过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未授权获取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openid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用户登陆，首先弹出 授权页面。授权以后，进入注册页面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点击【机构认证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首先弹出【机构认证说明】同意以后，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 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在下方出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名称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姓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法人身份证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营业执照上传【正反面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其他材料【</a:t>
            </a: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jpg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图片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500" spc="-1" strike="noStrike">
                <a:solidFill>
                  <a:srgbClr val="ff0000"/>
                </a:solidFill>
                <a:latin typeface="Arial"/>
                <a:ea typeface="宋体"/>
              </a:rPr>
              <a:t>注册成功以后非机构用户默认身份为【社会人士】，机构用户默认身份为【机构用户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跳转到 年龄选择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450800" y="22003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623880" y="220032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1450800" y="274320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623880" y="2743200"/>
            <a:ext cx="82692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手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椭圆 7"/>
          <p:cNvSpPr/>
          <p:nvPr/>
        </p:nvSpPr>
        <p:spPr>
          <a:xfrm>
            <a:off x="1467000" y="1041480"/>
            <a:ext cx="1060200" cy="104940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/>
          <p:cNvSpPr/>
          <p:nvPr/>
        </p:nvSpPr>
        <p:spPr>
          <a:xfrm>
            <a:off x="2257560" y="3254400"/>
            <a:ext cx="1184040" cy="39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认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注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1982880" y="3282840"/>
            <a:ext cx="288720" cy="28584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1461960" y="375588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2"/>
          <p:cNvSpPr/>
          <p:nvPr/>
        </p:nvSpPr>
        <p:spPr>
          <a:xfrm>
            <a:off x="417600" y="375588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机构名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3"/>
          <p:cNvSpPr/>
          <p:nvPr/>
        </p:nvSpPr>
        <p:spPr>
          <a:xfrm>
            <a:off x="1467000" y="42195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4"/>
          <p:cNvSpPr/>
          <p:nvPr/>
        </p:nvSpPr>
        <p:spPr>
          <a:xfrm>
            <a:off x="422280" y="4219560"/>
            <a:ext cx="120636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法人姓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5"/>
          <p:cNvSpPr/>
          <p:nvPr/>
        </p:nvSpPr>
        <p:spPr>
          <a:xfrm>
            <a:off x="944640" y="5049720"/>
            <a:ext cx="1828800" cy="6732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宋体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0000"/>
                </a:solidFill>
                <a:latin typeface="Arial"/>
                <a:ea typeface="宋体"/>
              </a:rPr>
              <a:t>其他项目参照右侧说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年龄选择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完成以后跳转到【首页】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500" spc="-1" strike="noStrike">
                <a:solidFill>
                  <a:srgbClr val="595959"/>
                </a:solidFill>
                <a:latin typeface="Arial"/>
                <a:ea typeface="宋体"/>
              </a:rPr>
              <a:t>机构用户 审核通过以后，会收到【消息】，消息里面附带运营后台的地址和账号信息。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3"/>
          <p:cNvSpPr/>
          <p:nvPr/>
        </p:nvSpPr>
        <p:spPr>
          <a:xfrm>
            <a:off x="977760" y="323388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3~6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4"/>
          <p:cNvSpPr/>
          <p:nvPr/>
        </p:nvSpPr>
        <p:spPr>
          <a:xfrm>
            <a:off x="635040" y="2422440"/>
            <a:ext cx="275904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请选择您的孩子的年龄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5"/>
          <p:cNvSpPr/>
          <p:nvPr/>
        </p:nvSpPr>
        <p:spPr>
          <a:xfrm>
            <a:off x="977760" y="377496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7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岁以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9"/>
          <p:cNvSpPr/>
          <p:nvPr/>
        </p:nvSpPr>
        <p:spPr>
          <a:xfrm>
            <a:off x="1123920" y="616284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完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园用户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家校用户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园用户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家校用户为 统一平台不用产品用户跳转而来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激活用户以后，根据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union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从平台获取对应用户的详细信息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完成授权以后，跳转到小程序首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问题点：请提供对应接口文档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4"/>
          <p:cNvSpPr/>
          <p:nvPr/>
        </p:nvSpPr>
        <p:spPr>
          <a:xfrm>
            <a:off x="801720" y="2957400"/>
            <a:ext cx="266688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椭圆 7"/>
          <p:cNvSpPr/>
          <p:nvPr/>
        </p:nvSpPr>
        <p:spPr>
          <a:xfrm>
            <a:off x="1461960" y="108432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9"/>
          <p:cNvSpPr/>
          <p:nvPr/>
        </p:nvSpPr>
        <p:spPr>
          <a:xfrm>
            <a:off x="1123920" y="4395960"/>
            <a:ext cx="182880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注册和登录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领导注册】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专用内页注册二维码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"/>
          <p:cNvSpPr/>
          <p:nvPr/>
        </p:nvSpPr>
        <p:spPr>
          <a:xfrm>
            <a:off x="417600" y="909720"/>
            <a:ext cx="324000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二维码后台根据不同的省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市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县，单独生成二维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红字部分为根据二维码带的参数，动态显示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举例：江苏省教育厅领导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等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注册成功以后，跳转到【首页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每个二维码限定可使用时间和注册次数等！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椭圆 7"/>
          <p:cNvSpPr/>
          <p:nvPr/>
        </p:nvSpPr>
        <p:spPr>
          <a:xfrm>
            <a:off x="1461960" y="1011240"/>
            <a:ext cx="1152720" cy="11523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595959"/>
                </a:solidFill>
                <a:latin typeface="Arial"/>
                <a:ea typeface="宋体"/>
              </a:rPr>
              <a:t>LOGO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9"/>
          <p:cNvSpPr/>
          <p:nvPr/>
        </p:nvSpPr>
        <p:spPr>
          <a:xfrm>
            <a:off x="1100160" y="4498920"/>
            <a:ext cx="182880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进入首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0"/>
          <p:cNvSpPr/>
          <p:nvPr/>
        </p:nvSpPr>
        <p:spPr>
          <a:xfrm>
            <a:off x="801720" y="2435400"/>
            <a:ext cx="2666880" cy="39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宋体"/>
              </a:rPr>
              <a:t>xxxx </a:t>
            </a:r>
            <a:r>
              <a:rPr b="0" lang="zh-CN" sz="1800" spc="-1" strike="noStrike">
                <a:solidFill>
                  <a:srgbClr val="ff0000"/>
                </a:solidFill>
                <a:latin typeface="Arial"/>
                <a:ea typeface="宋体"/>
              </a:rPr>
              <a:t>领导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：欢迎来到志愿者平台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校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校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【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显示学校设置的图片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】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：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比例扁图，如没有上传，则显示一张默认的图片。（需今日提供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直播通知只显示最近的一条就好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家园用户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本园所发布的志愿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三部分内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亲子活动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用户和园所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默认为系统设定图片，后台设定学校图片的情况下，显示学校设定的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亲子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社会人士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机构？？？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只显示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K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范围内并且发布范围包含【社会人士】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根据年龄段显示 社会实践或者亲子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消息通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当前进行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轮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62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首页 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【教育局领导】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矩形 1"/>
          <p:cNvSpPr/>
          <p:nvPr/>
        </p:nvSpPr>
        <p:spPr>
          <a:xfrm>
            <a:off x="417600" y="909720"/>
            <a:ext cx="3666960" cy="5803920"/>
          </a:xfrm>
          <a:prstGeom prst="rect">
            <a:avLst/>
          </a:prstGeom>
          <a:noFill/>
          <a:ln w="1260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矩形 2"/>
          <p:cNvSpPr/>
          <p:nvPr/>
        </p:nvSpPr>
        <p:spPr>
          <a:xfrm>
            <a:off x="5372280" y="909720"/>
            <a:ext cx="3240000" cy="580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处理逻辑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1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活动，社会实践等主要是显示本局</a:t>
            </a: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/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厅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下辖学校的活动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2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志愿者活动按照活动截止时间最近的三条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3. 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社会实践按照发布时间的倒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595959"/>
                </a:solidFill>
                <a:latin typeface="Arial"/>
                <a:ea typeface="宋体"/>
              </a:rPr>
              <a:t>4.</a:t>
            </a:r>
            <a:r>
              <a:rPr b="0" lang="zh-CN" sz="16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【请确认：按照什么条件显示？】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  <a:ea typeface="宋体"/>
              </a:rPr>
              <a:t>5.</a:t>
            </a:r>
            <a:r>
              <a:rPr b="0" lang="zh-CN" sz="1600" spc="-1" strike="noStrike">
                <a:solidFill>
                  <a:srgbClr val="ff0000"/>
                </a:solidFill>
                <a:latin typeface="Arial"/>
                <a:ea typeface="宋体"/>
              </a:rPr>
              <a:t>如何关联家园用户和学校的关系呢？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矩形 4"/>
          <p:cNvSpPr/>
          <p:nvPr/>
        </p:nvSpPr>
        <p:spPr>
          <a:xfrm>
            <a:off x="39852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椭圆 7"/>
          <p:cNvSpPr/>
          <p:nvPr/>
        </p:nvSpPr>
        <p:spPr>
          <a:xfrm>
            <a:off x="45072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矩形 3"/>
          <p:cNvSpPr/>
          <p:nvPr/>
        </p:nvSpPr>
        <p:spPr>
          <a:xfrm>
            <a:off x="132228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5"/>
          <p:cNvSpPr/>
          <p:nvPr/>
        </p:nvSpPr>
        <p:spPr>
          <a:xfrm>
            <a:off x="1373040" y="1898640"/>
            <a:ext cx="7416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矩形 6"/>
          <p:cNvSpPr/>
          <p:nvPr/>
        </p:nvSpPr>
        <p:spPr>
          <a:xfrm>
            <a:off x="2193840" y="2643120"/>
            <a:ext cx="8272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8"/>
          <p:cNvSpPr/>
          <p:nvPr/>
        </p:nvSpPr>
        <p:spPr>
          <a:xfrm>
            <a:off x="2246400" y="1898640"/>
            <a:ext cx="73980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矩形 10"/>
          <p:cNvSpPr/>
          <p:nvPr/>
        </p:nvSpPr>
        <p:spPr>
          <a:xfrm>
            <a:off x="3117960" y="264312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区域管理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椭圆 11"/>
          <p:cNvSpPr/>
          <p:nvPr/>
        </p:nvSpPr>
        <p:spPr>
          <a:xfrm>
            <a:off x="3168720" y="1898640"/>
            <a:ext cx="741240" cy="696960"/>
          </a:xfrm>
          <a:prstGeom prst="ellipse">
            <a:avLst/>
          </a:prstGeom>
          <a:noFill/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i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2"/>
          <p:cNvSpPr/>
          <p:nvPr/>
        </p:nvSpPr>
        <p:spPr>
          <a:xfrm>
            <a:off x="417600" y="909720"/>
            <a:ext cx="3666960" cy="86832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系统默认图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13"/>
          <p:cNvSpPr/>
          <p:nvPr/>
        </p:nvSpPr>
        <p:spPr>
          <a:xfrm>
            <a:off x="417600" y="2981160"/>
            <a:ext cx="3666960" cy="55908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Arial"/>
                <a:ea typeface="宋体"/>
              </a:rPr>
              <a:t>直播通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14"/>
          <p:cNvSpPr/>
          <p:nvPr/>
        </p:nvSpPr>
        <p:spPr>
          <a:xfrm>
            <a:off x="450720" y="361152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志愿活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5"/>
          <p:cNvSpPr/>
          <p:nvPr/>
        </p:nvSpPr>
        <p:spPr>
          <a:xfrm>
            <a:off x="527040" y="3933720"/>
            <a:ext cx="15876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6"/>
          <p:cNvSpPr/>
          <p:nvPr/>
        </p:nvSpPr>
        <p:spPr>
          <a:xfrm>
            <a:off x="3168720" y="37083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7"/>
          <p:cNvSpPr/>
          <p:nvPr/>
        </p:nvSpPr>
        <p:spPr>
          <a:xfrm>
            <a:off x="2290680" y="3933720"/>
            <a:ext cx="1706760" cy="8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范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征集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发布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报名截止时间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8"/>
          <p:cNvSpPr/>
          <p:nvPr/>
        </p:nvSpPr>
        <p:spPr>
          <a:xfrm>
            <a:off x="460440" y="4906800"/>
            <a:ext cx="826920" cy="2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社会实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19"/>
          <p:cNvSpPr/>
          <p:nvPr/>
        </p:nvSpPr>
        <p:spPr>
          <a:xfrm>
            <a:off x="536400" y="5199120"/>
            <a:ext cx="1587600" cy="5540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0"/>
          <p:cNvSpPr/>
          <p:nvPr/>
        </p:nvSpPr>
        <p:spPr>
          <a:xfrm>
            <a:off x="3179880" y="4973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1"/>
          <p:cNvSpPr/>
          <p:nvPr/>
        </p:nvSpPr>
        <p:spPr>
          <a:xfrm>
            <a:off x="2301840" y="5199120"/>
            <a:ext cx="170496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活动单位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22"/>
          <p:cNvSpPr/>
          <p:nvPr/>
        </p:nvSpPr>
        <p:spPr>
          <a:xfrm>
            <a:off x="450720" y="5753160"/>
            <a:ext cx="82548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公益课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23"/>
          <p:cNvSpPr/>
          <p:nvPr/>
        </p:nvSpPr>
        <p:spPr>
          <a:xfrm>
            <a:off x="527040" y="6045120"/>
            <a:ext cx="1587600" cy="566640"/>
          </a:xfrm>
          <a:prstGeom prst="rect">
            <a:avLst/>
          </a:prstGeom>
          <a:solidFill>
            <a:srgbClr val="ffffff"/>
          </a:solidFill>
          <a:ln w="12600">
            <a:solidFill>
              <a:srgbClr val="bcbcb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95959"/>
                </a:solidFill>
                <a:latin typeface="Arial"/>
                <a:ea typeface="宋体"/>
              </a:rPr>
              <a:t>P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24"/>
          <p:cNvSpPr/>
          <p:nvPr/>
        </p:nvSpPr>
        <p:spPr>
          <a:xfrm>
            <a:off x="3168720" y="5819760"/>
            <a:ext cx="82692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更多</a:t>
            </a:r>
            <a:r>
              <a:rPr b="0" lang="en-US" sz="1200" spc="-1" strike="noStrike">
                <a:solidFill>
                  <a:srgbClr val="595959"/>
                </a:solidFill>
                <a:latin typeface="Arial"/>
                <a:ea typeface="宋体"/>
              </a:rPr>
              <a:t>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25"/>
          <p:cNvSpPr/>
          <p:nvPr/>
        </p:nvSpPr>
        <p:spPr>
          <a:xfrm>
            <a:off x="2290680" y="6045120"/>
            <a:ext cx="170676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课程名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上课人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  <a:ea typeface="宋体"/>
              </a:rPr>
              <a:t>主讲老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12-27T05:07:00Z</dcterms:created>
  <dc:creator>miya</dc:creator>
  <dc:description/>
  <dc:language>en-US</dc:language>
  <cp:lastModifiedBy>宗彪</cp:lastModifiedBy>
  <dcterms:modified xsi:type="dcterms:W3CDTF">2020-01-09T09:46:53Z</dcterms:modified>
  <cp:revision>129</cp:revision>
  <dc:subject/>
  <dc:title>画面流程图 （小程序端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339</vt:lpwstr>
  </property>
</Properties>
</file>